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4C0-C3F5-4324-902A-02E08DFD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5429-E16F-49E5-A495-B5B106BA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4EF-4FFD-4253-81AA-60EE781C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600-66FF-40DD-847E-C445F077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65A-F16F-4C18-82A4-6B1F3243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706-9457-44FF-88D2-9E827A1D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88C-4AB7-4873-9FB3-27DE0CF1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9FD-4859-4812-B801-392F2B49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D65-0934-4EBB-BB7B-F69B8598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706-7AEC-46F4-9EF0-449E859F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693-56DD-44AF-88FF-71708847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22B-8E51-481C-8A4C-EBB4F3AD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3236-7F91-45A2-8843-5463D745CA3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assia@computer-law.co.il" TargetMode="External"/><Relationship Id="rId2" Type="http://schemas.openxmlformats.org/officeDocument/2006/relationships/hyperlink" Target="mailto:office@patentech.co.il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and Commercializing your Patent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your profit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258920" y="54936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omi Assia &amp; Co. – Law Offices, Patent Attorney’s and No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0920" y="5300640"/>
            <a:ext cx="871380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yrigh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omi Assia &amp; Co. – Law Offices, Patent Attorney’s and No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assia@computer-law.co.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ffice@patentech.co.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commercialize Pat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nse your IP to those that really need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License your IP in order to lower development costs – create monetary val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 your rights against Infring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market research and technology awareness in your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d manage a commercial IP enforcement program for your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iz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and and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of your pat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and understand your own technolog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the applicability of your technology to other 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50920" y="5962680"/>
            <a:ext cx="871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Copyrigh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omi Assia &amp; Co. – Law Offices, Patent Attorney’s and No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to look out f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 your reputation – try outsourcing enforcement polic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ware of “Barking up the wrong tre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patent enforcement – If the technology is valueless, don’t invest in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your battles wis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professional'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of your fac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0920" y="5962680"/>
            <a:ext cx="871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Copyrigh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omi Assia &amp; Co. – Law Offices, Patent Attorney’s and No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Problems Solv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er patents firms as your central patents “command and control” to lower cost and get full devo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ource your dormant and shelved patents to professionals – let them fight for your rights with no ris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your existing patents – identif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thy Pat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be afraid to litigate! If an infringement is found, you will profit by trial or sett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a contingency basis with outsourced patents legal “know-how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manage a commercial patents enforcement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50920" y="5962680"/>
            <a:ext cx="871380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yrigh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omi Assia &amp; Co. – Law Offices, Patent Attorney’s and No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“Worthy” Pat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thy pat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be valued as a derivative of it’s potential profi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ompanies are it’s potential infringers? are they multi -national organiz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ation would be calculated based on the anticipated five years of sales and royalties (between 1%-3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fringers could go for “quick” patent purchases of specific patents with a value of between $50,000-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50920" y="5962680"/>
            <a:ext cx="871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Copyrigh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omi Assia &amp; Co. – Law Offices, Patent Attorney’s and No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ct no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coming reforms with the USP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 on willful infrin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 on Compensatory da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Judicial trends are occu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ngful use of the Judicial System by Patent Troll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oy the fruits of your labor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50920" y="5962680"/>
            <a:ext cx="871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Copyrigh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omi Assia &amp; Co. – Law Offices, Patent Attorney’s and No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from successful “Patent Rich” companies such as IB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revenues from your hard earned and accumulated Patent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your shareholders return on past and future investm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loose track of your technolog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e your patent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nd and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changing and adapt to market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0920" y="5962680"/>
            <a:ext cx="871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Copyrigh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omi Assia &amp; Co. – Law Offices, Patent Attorney’s and No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rael is known for it’s high tech industry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50920" y="5962680"/>
            <a:ext cx="871380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pyrigh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omi Assia &amp; Co. – Law Offices, Patent Attorney’s and No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826920" y="2276640"/>
            <a:ext cx="766476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entury Schoolbook"/>
              </a:rPr>
              <a:t>Israel</a:t>
            </a:r>
            <a:r>
              <a:rPr b="1" i="1" lang="en-US" sz="7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entury Schoolbook"/>
              </a:rPr>
              <a:t>A Silicon “Wadi</a:t>
            </a:r>
            <a:r>
              <a:rPr b="1" i="1" lang="en-US" sz="72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1" i="1" lang="en-US" sz="7200" spc="-1" strike="noStrike">
                <a:solidFill>
                  <a:srgbClr val="333399"/>
                </a:solidFill>
                <a:latin typeface="Century Schoolbook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424400" cy="2252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250920" y="6033960"/>
            <a:ext cx="871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Copyrigh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omi Assia &amp; Co. – Law Offices, Patent Attorney’s and No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7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Amendment to the Research &amp; Development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971640" y="263700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s the transfer of know-how abro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s the transfer of manufacturing ab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50920" y="5962680"/>
            <a:ext cx="871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Copyrigh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omi Assia &amp; Co. – Law Offices, Patent Attorney’s and No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ributing Factors 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-Tech Development in Israe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50920" y="1557360"/>
            <a:ext cx="849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ds offered by the Chief Scientist of the Ministry of Industry &amp;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-Nation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rd - F (U.S.A - Isra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iirdf (Canada - Isra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vernment Support for Market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50920" y="5962680"/>
            <a:ext cx="871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Copyrigh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omi Assia &amp; Co. – Law Offices, Patent Attorney’s and No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 do you make money out of knowledg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mmercialize your Pa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50920" y="5962680"/>
            <a:ext cx="871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Copyrigh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omi Assia &amp; Co. – Law Offices, Patent Attorney’s and No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ommercialize Pat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returns on your patents investments with little “out of pocket” expe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and profit from dormant patents that has great monetary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your technology and strengthen your position in the field of your business – be the market standa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shareholder value for your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your long term financial and technological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50920" y="5962680"/>
            <a:ext cx="871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Copyrigh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omi Assia &amp; Co. – Law Offices, Patent Attorney’s and No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ommercialize Patents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ange of your company strategy can set existing patents adrift – make sure you don’t loose your invest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ents are often sold to others under an M&amp;A deal to lower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D companies often focus on developing technology and not making commercial products! R&amp;D Patents are often she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5962680"/>
            <a:ext cx="871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Copyrigh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omi Assia &amp; Co. – Law Offices, Patent Attorney’s and No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not to Commercialize Pat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risk of long and costly lit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aggression tactics and risk of repercu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in-house know how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Identifying profitable pat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f commercialization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y and distracted CEO’s cant focus on maximizing profits through IP enfor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sight of unseen sources of reven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50920" y="5962680"/>
            <a:ext cx="871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Copyright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omi Assia &amp; Co. – Law Offices, Patent Attorney’s and No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49:22Z</dcterms:created>
  <dc:creator>.,</dc:creator>
  <dc:description/>
  <dc:language>en-US</dc:language>
  <cp:lastModifiedBy>Lesleigh</cp:lastModifiedBy>
  <dcterms:modified xsi:type="dcterms:W3CDTF">2011-07-17T09:45:02Z</dcterms:modified>
  <cp:revision>52</cp:revision>
  <dc:subject/>
  <dc:title>Commercializing your patent portfolio</dc:title>
</cp:coreProperties>
</file>